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DA08-0982-440D-B7EB-A63A2D8EB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427F-F542-407B-97B4-42066AC6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04CB-448C-4D0A-A8B4-5FA32CC4B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88D5-1F78-4C4B-89B3-6F5F47ACE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80CC4-1524-4077-97CC-D7D06C6C1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D97F7-F6CE-43C3-A68F-1967D9A59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57AB3-88B4-4AEA-8CB8-17B0D9A3E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0739B-CBF9-4184-8174-BE5769CEB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BE6AF-8B0F-4C13-97A7-4390F0D92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413E3-02C6-424F-9204-89625E6FA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C43FA-D695-42F3-BC54-EBF8B50D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6EE5-6942-4804-AAB2-06B547AAF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7FA95-5EFF-4C31-BFF2-9CA66684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1A050-F793-4B06-980B-30973A3B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08078-9558-4E89-96C6-E306944E9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87469-8B33-49E3-BAEB-365A6CC8D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3FD16-8DDF-488A-BB60-49F49FC75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42790-2785-41AE-B0C2-642D2DF88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455B6-1C0F-47C7-9372-18283EF7E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867DD-ED8E-4C97-BA30-49FF6C07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BE920-0FC2-45A9-A523-AD7B6A48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CE232-41BF-4AD4-BD5C-C390DFE31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3168-A3B3-443F-981C-D384E1F1F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89893-5D0B-4E2E-96EB-0EA87B8EC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DF01D-0AFD-4566-8089-91C2BCB8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43F97-8FE9-4E2A-B597-6B1CDBA7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B6B1F-B521-489A-A99A-BB30FDCD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A343B-2797-44F5-A4DE-1AED20B5F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42369-E55B-4B22-B2B7-2708E1209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502E5-2AB6-45AA-AB78-FB8A00391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47300-23EB-44F5-A2C1-3DF6E8745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11AA5-7FFA-49D0-B036-51AB73F6E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94664-5E3D-45DA-BC92-146642632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C670-F6FB-443A-9E2D-10496A311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2D828-07E0-47D9-AA0A-1AEADBEA1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21AE0-1A23-4832-A906-448AFC8F3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8583B-6AF2-40B2-89E6-9BB4C89EE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E5AC7-FCD9-4DAB-90D3-96B5CCF6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4B93D-5B59-4147-A440-888C109E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6542B-2112-49B6-AF27-B6348CDE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654D4-029E-40A3-B981-68C6A7287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3A412-85B7-4892-B031-CB1C8F3C9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1DE16-B081-4163-82CE-D0E6D9019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1474B-9975-45B2-8E8B-BD688BB16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533D-5BB2-4F2D-BE0D-363C8E418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1FA0D-AFC3-48EF-9C40-AA97BDADF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6DD8C-556A-4041-A9C0-F6E523849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4BE32-B313-423B-8279-9BBBEA1F7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77C0F-8BCC-415E-AC8A-B31C04ABC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38D2B-C404-4B7F-9361-6B944A236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0E094-1CA0-4E5E-9529-EA446EDD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1E7A6-FD2B-4460-8DC0-90DFAFAB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1BCAA-69C3-4B37-BC13-639B5B0F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D04FB-2EF4-4CFC-8578-418CE9F6D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7B249-5EDA-4895-AD58-0A9E42EE8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F81F-ED0C-4B5E-B4B1-85FC0CA71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C6A9D-7917-4902-9F09-1A654115D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7A91A-6490-4798-9B23-C94BB08B7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6A822-9390-4E7F-BA16-C17F584CE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4872C-A001-4DDF-AA6C-F5E8437B8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25E20-C387-459D-B9F7-0CC66693B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9B8F4-4716-41EB-BF71-E12DC59B4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C74DE-E39A-4512-8604-345236098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B4A0CB-9F4F-403A-AD85-58CA9C26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CF748-421E-4902-97EE-13D07F2D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88B9A-FDB5-46DC-A534-665337B9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88ED-52DF-4272-9935-4E36E93F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F87A2-8659-475C-A376-01AA0B398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C3CB6-9986-495F-8910-173151027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F17C3-4DEE-431E-9814-C97B7DEDE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D541DA-4C64-4956-88AC-E70B8E8EC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65C094-41C6-4F77-A003-C3EFDC1E8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18FFF-DB97-4F8C-B98E-6FDE6B4AE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C4D2D2-F1BA-4AC8-A84E-BED2F69FE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16437-9AED-4E37-9FB0-AA0FA0F85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5A419-701E-4123-BE27-D721F6DDE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3F59F-EA40-4AF2-8931-2084483A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2657-9662-49AD-821D-891DABF0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3F108-6BDD-4EF9-AB86-941CF3C2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B911B-A855-4FFB-A9AB-BDCDF611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42ED2C-34C5-4103-B5B9-C98D6EA33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5DCC9-B8B9-4845-84AA-218FCFDC4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90EA0-5625-40D9-8992-176B8E41F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74D3-F171-44C3-B8DC-0CA3761C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DF174-DB6C-4730-97BC-971BD43B1D1C}" type="slidenum">
              <a:rPr b="0" lang="en-N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C3676-8C58-4ED2-928F-1D85C42A2E41}" type="slidenum">
              <a:rPr b="0" lang="en-NZ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B1197-7AF9-4944-8288-F17D35A8679E}" type="slidenum">
              <a:rPr b="0" lang="en-NZ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0C617-DDEA-4911-9687-4603E7DAFCDC}" type="slidenum">
              <a:rPr b="0" lang="en-N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381A9-9C42-402A-8381-9D666D2D31DA}" type="slidenum">
              <a:rPr b="0" lang="en-N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8246D-1290-4FCA-B150-B6E387F19143}" type="slidenum">
              <a:rPr b="0" lang="en-N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3AAA3-DA29-4B68-BB83-6351EE39449D}" type="slidenum">
              <a:rPr b="0" lang="en-N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682560" y="3157560"/>
            <a:ext cx="8089920" cy="18781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Corbel"/>
              </a:rPr>
              <a:t>By Wilson,Lok,David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rbel"/>
              </a:rPr>
              <a:t>Lok , Wilson ,Davi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rbel"/>
              </a:rPr>
              <a:t>Built a Kaikorai Catchment Simulation Calculato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rbel"/>
              </a:rPr>
              <a:t>A trip to the Kaikorai Catch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rbel"/>
              </a:rPr>
              <a:t>Meeting with Sam and Hamish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9" name="Picture 3" descr="DSC02559.JPG"/>
          <p:cNvPicPr/>
          <p:nvPr/>
        </p:nvPicPr>
        <p:blipFill>
          <a:blip r:embed="rId2"/>
          <a:stretch/>
        </p:blipFill>
        <p:spPr>
          <a:xfrm>
            <a:off x="2571840" y="3429000"/>
            <a:ext cx="407196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rbel"/>
              </a:rPr>
              <a:t>Basic mod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rbel"/>
              </a:rPr>
              <a:t>Planned out how each value will effect each are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rbel"/>
              </a:rPr>
              <a:t>Getting Data to change each tim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2" name="Picture 3" descr="DSC02562.JPG"/>
          <p:cNvPicPr/>
          <p:nvPr/>
        </p:nvPicPr>
        <p:blipFill>
          <a:blip r:embed="rId2"/>
          <a:stretch/>
        </p:blipFill>
        <p:spPr>
          <a:xfrm>
            <a:off x="5643720" y="4214880"/>
            <a:ext cx="3119400" cy="23400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5" descr="table_view.PNG"/>
          <p:cNvPicPr/>
          <p:nvPr/>
        </p:nvPicPr>
        <p:blipFill>
          <a:blip r:embed="rId3"/>
          <a:stretch/>
        </p:blipFill>
        <p:spPr>
          <a:xfrm>
            <a:off x="928800" y="4214880"/>
            <a:ext cx="392904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rbel"/>
              </a:rPr>
              <a:t>Two Final Product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rbel"/>
              </a:rPr>
              <a:t>One that users a macro and another one that uses Visual Basic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6" name="Picture 3" descr="Loks calculator.jpg"/>
          <p:cNvPicPr/>
          <p:nvPr/>
        </p:nvPicPr>
        <p:blipFill>
          <a:blip r:embed="rId2"/>
          <a:stretch/>
        </p:blipFill>
        <p:spPr>
          <a:xfrm>
            <a:off x="642960" y="3714840"/>
            <a:ext cx="3857760" cy="27702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4" descr="Wilson Calculator.jpg"/>
          <p:cNvPicPr/>
          <p:nvPr/>
        </p:nvPicPr>
        <p:blipFill>
          <a:blip r:embed="rId3"/>
          <a:stretch/>
        </p:blipFill>
        <p:spPr>
          <a:xfrm>
            <a:off x="5072040" y="3571920"/>
            <a:ext cx="370044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rbel"/>
              </a:rPr>
              <a:t>How we di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rbel"/>
              </a:rPr>
              <a:t>What we would improv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rbel"/>
              </a:rPr>
              <a:t>Scenario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rbel"/>
              </a:rPr>
              <a:t>Comparison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rbel"/>
              </a:rPr>
              <a:t>Goal Seek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0T00:45:38Z</dcterms:created>
  <dc:creator>FIRMIDM1</dc:creator>
  <dc:description/>
  <dc:language>en-US</dc:language>
  <cp:lastModifiedBy>FIRMIDM1</cp:lastModifiedBy>
  <dcterms:modified xsi:type="dcterms:W3CDTF">2009-11-20T02:17:15Z</dcterms:modified>
  <cp:revision>4</cp:revision>
  <dc:subject/>
  <dc:title>Kaikorai Catchment Simulation Calculator</dc:title>
</cp:coreProperties>
</file>